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BD09-A76A-4DEF-A071-54DD4AC3C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EB27-A93F-4A92-9855-D452F332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A484C8-DF13-4B30-8914-021E2BB1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C1EF1-E21F-4277-9B5D-31794F13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97388-A8A1-42B3-AAA6-10E2DA56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A6031C-FB16-4B5F-B33E-8C8F0CF1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044AF7-78E2-4496-B990-C8730E2E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E58CDB-0753-4A2F-B731-C3AFAFA1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927801-CBF4-433B-A36B-7485489D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251C7-1B3B-4B03-A539-D860A6763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93A308-AF32-4AA7-8191-DD9E6782F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5AC174-268F-4D3A-9813-AF74A4CF5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091B-540B-43C9-A6B9-77E4FF040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E6C9BC-53FF-424A-8915-22CDF80F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CF406E-D961-42B7-B8B8-4EA9DB96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4017A-9F1E-4372-BDEF-8CB27DE8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E0C09B-A489-424B-9BE6-424C9EEA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4F8433-72D1-4472-89E4-8712CD0A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0E0945-00FA-419A-9E88-5FE2A61A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285211-5615-46F9-B8C6-87BEE888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F3146-EE1B-4D98-8619-F4486967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E9DF2-28F6-4A21-BDC1-D8BC2379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D2143E-176F-47E3-B069-EE5A83C29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9AE9-C103-4695-8A28-DBFFC4BC2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3C0EE6-3254-4A89-8A3F-157E8D219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DC052-9799-4B23-B1A4-74AF8A1FE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D4BEC-90B6-41E9-9E3A-B4C37D03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01544A-7077-4A85-8744-5780388A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66E19-AB75-4587-855A-7B7AF67F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A9183-8005-4AB4-8B52-18C37D7F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080398-43DD-4CBC-B21E-7BF50DDC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FE052-8E87-40FB-AA9A-032CE066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AF5C5-5C35-4C7B-A0A3-E6927CBC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B7DCC-5DA6-4C60-A3CE-AEC30F35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FC7B-44F2-42F5-BA6B-71226775C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F55C8-3FAE-4C92-8833-07145358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E3B36-0A59-4882-BE24-935C7D11E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93384-D425-473B-9F9D-02FAD2C66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55D68F-4315-44B6-BE95-804E94B4E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140ED0-FE5C-4CBE-ADCE-F620E1CE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8A6F7D-B197-422F-9567-41C952F5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907BC0-F982-4999-A2F0-19B8C00D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99E3DB-A7B0-4474-B5BB-F846D858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5D6AFD-9EB4-4030-BDDF-3A317EED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6C0996-E9CB-4545-97FE-EAB3AA0C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2510-81AD-49A8-898A-A4C60334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8A9E21-186B-45DA-8B5A-0FC60D6C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FD6E0B-17B2-4039-A0A4-05D4F58C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AC4490-E665-4F2B-B2E5-4B1D9C02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DC6DF6-E6C0-4852-859D-5B7F20191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1581DA-E3E0-4A6E-813B-936BC1E69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64FB0C-8DBA-4140-B1FB-6E7EAF43A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EA099F-4469-4F14-83B8-BF6413D0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5B0CEF-9848-474D-AF2A-FF3803D8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857AC5-8815-4A90-8A72-65D2BCC5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C30549-D774-403E-803E-608776CE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82DD-E154-415E-B46A-ED5939BE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7E35EC-8CCB-4BDE-BB00-EACA7504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7B0D0A-F525-4AF2-8672-431B7890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A128FA-B64B-4A4B-9B7A-4703BA82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9EC8C9-2611-4E8B-8107-E842E5C6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04BBEE-9C65-4C21-9EBC-CE9206DC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F8C405-885E-46BB-AA1E-173CB0199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4D3E64-EA4F-4440-B87C-8E8FE68D4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6DD44C-ADBD-46BB-AB42-31BDDBC12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8F3239-5B9C-4EBE-B3C2-689BCE6D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3035E0-9EBD-425A-894E-B6D43C8D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1E90-ECE8-4EE1-BA27-022DE4BA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D0EB81-0FE0-4E84-B5F6-884AFC9D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658670-44B7-45FF-8C00-F7E8C18C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48677A-A654-460B-A67B-A0F88C6D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D4CDBC-7D7E-40B7-ABF7-5195D5EF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D60A6D-326D-4C12-921A-5A575E20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985C15-8BED-4610-9855-3FB1FA13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C787D5-5D73-4590-8F83-34C5D369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2D1A3C-4127-4663-A092-F33F05339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113893-0F7C-4C7B-A142-96BDED821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5FE9BB-5FA3-476A-8160-0A85E5B12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741B-2514-4282-BAE1-2557652B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A1A894-ED7C-4B8B-87F4-8B91E4DD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FCA9DD-3DF1-4C54-9366-CE8294FE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E65E6D-78FF-4633-824C-109FF8DF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A01D9C-0352-4A01-B057-9DEEF383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052AC1-6FAB-44A3-849C-416940FC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6FC606-40B8-4AC4-994E-47FBBD7A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E304DB-EB2B-44E3-A1F2-B41CFC93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942F1F-0EEC-463C-8971-6251897A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9CA885-0AB6-4A38-BCD0-9769EC0D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24DF6C-2190-45D6-9801-B57589C3E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5FEB-655F-4BE4-8014-E084763C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474F64-EDBA-476B-9FFC-493E5C8F1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E3925C-00E6-48B8-ACE2-0A3084456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1D33D1-2B7D-4405-9581-27A26C70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BD2991-CE7D-436A-B803-EE01F28A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DCAD12-0B70-4DD5-B93C-6E2433EE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97716B-B786-4BDB-9B2D-4DE2D710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2EFF86-FCE9-4433-B0D8-30D34EAD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C9AFE5-9FC3-4999-8C76-C46E865B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A118D3-ACE2-444B-898A-441AA54C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36CFF4-3951-4D74-82D7-A5D9359D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E0F7-254E-4F20-904B-4A3A5075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631D40-CF04-4EB4-85F1-6A16EDA1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ACB0BE-EBFC-46A2-9610-BAF38B8A8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1B2289-D657-4BB0-BE98-55D749889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4B59A9-8D66-410D-BBD2-72BDB168A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A1BAE1-6F6E-40D7-BBBD-8BA2B1EC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59F440-A6A4-4AEF-9526-B6E176E2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FB368C-507C-43B8-8EFB-B3D1DCF1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C8316A-0A47-4E72-89DF-5E46A5A7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CCC049-D549-4B68-AC2D-390EAB0E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F68411-DA9E-4826-99B5-2BD2795C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57D4-7E07-4E8E-BF40-79C02DA6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363C-A01B-4E4B-9392-D912EC3C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29E808-1915-4E59-BBBD-E07F058D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2CECE6-5439-429A-8228-3DA3BA0E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AB2FC4-5E87-4ABF-B402-11A8F8CF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68B98D-F9F8-4DBD-9A39-7ABB64FC3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3313FA-33AA-4610-A393-DABB880EC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370B62-0174-4E16-8C6A-FAE379205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401DF5-1081-43E5-A702-5E6B4AEA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80C3F2-9CFD-4EF9-8F14-BF049774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1667AD-A03E-403C-8424-4D10D34E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9A9CD7-1B78-4E4B-9DCC-7E004398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7A42-C542-4E88-B21C-75C34CB4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A112C2-8F9A-4F1E-81BB-6C59FC64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C91DBE-88EB-46CB-9BA3-C2E721F6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1BE17F-6119-4E18-B213-7D9F6B81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BFDE7C-7408-4CA3-8D4F-3C1FA6F3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5208F4-DDF6-4BCF-8E62-23FF29E0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D3EEFE-994E-486C-AF49-70B91166C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4A18E6-A023-4AA1-95DB-0514DAC01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822201-63F2-446B-B1BA-4B38277DB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019D0F-3E0B-48D3-91E7-BCC64EC5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ADC65F-57E6-408A-AE3A-55B63AFD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9EEC-4C6B-4891-BE4E-BC807688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865B18-CC37-4454-9B37-8C1EB452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6EC052-C409-4113-BDD2-470B7638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B0D0AF-EDAB-4918-A5BA-9A25D311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8BA1A6-B724-46AE-BB92-E270CD02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40779C-084D-4232-BE9C-12DF09C2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4CB0B5-D567-41F2-A87F-0A338073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64523D-3158-4BDE-9CA4-D66A1DD8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1E8393-4846-4266-9C2A-88521ECAE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DC82A7-2FE2-4446-9B8E-4E7A54C38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8D356E-D2DB-48DA-93D3-FCA31D26A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41F4-3BDF-4100-B0F4-5497110D3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314298-D49C-4F41-8E84-B756272B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953BF2-F47C-4C18-B57C-2E60AF2C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007157-0255-4751-AD1E-86525085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70AED3-4054-4F6E-BEC9-977E641D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BDA62D-8900-41E1-A706-7FB393BE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6B9A3D-06F7-4106-BD7F-C263375A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CAB598-8F2B-4281-B1F3-C2965BF1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AA75AF-957E-45E5-89F9-3A56547B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B7A6B4-9A64-458B-AC26-226D2335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CF64DC-A791-4137-8FAA-D3EDC325C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0E28-6245-4CFF-A89A-789172898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3406F1-8EF5-4FC2-AF5A-2473F15E9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CBB482-D410-45FD-9FCF-76246973C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5C6F03-C474-444D-83D1-5668606C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254932-6492-450B-B82D-770D3F4C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532918-31EF-496A-BF14-A2DC347A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605C2B-5333-47E2-AE05-6CC7268E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74F1B6-034B-4748-93FA-5FA2D102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EE0D25-A0D9-4CDD-B338-B5341CDC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8CD30B-DF06-4BB0-BB6A-0C557A9F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5F854D-D917-462B-9A76-42485A69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9ECBD-9AB7-4C9E-B366-4687E63F2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0BA8BA-F1BF-4937-87EE-70C5C168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B87E7C-4EE8-457E-AEC9-A22B2651A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EF8194-76BA-46CD-98D5-8605BF54A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65218-950B-4D39-97D1-8B525B16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7C0E4-DF70-488E-B16C-08B4E446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74472-404E-4A47-A9D4-C87F6F0C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FE329-433C-4EFE-9EEB-96170CEF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5286-481E-48E1-B667-76AB92B1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CDABC-F0D1-48A7-B37E-FA050633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FB778-E92C-4E50-946D-79729832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73B7C-7A2C-4A6B-B83F-08B342DC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44729-009A-4669-A9EA-8EFDDEDE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B93C8-9433-4051-A0A1-5BEE6E5E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AEB2A-4B61-4576-A22A-025853B4C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BCFD6-133D-4FAB-B3B0-F537B9E2B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E8A5B-81B1-417C-BD04-CCE11E9A6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B7080-EF4D-421B-8AAC-71D6A534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43062-A428-4141-804E-134FB7D3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DFF0-A2CC-462E-9783-E5BA9C84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C7332-EA71-40BE-A8F4-67C184B6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745B3-2465-4D05-AE92-F0FC4E72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3A53A-D2EE-4A60-9C9C-1F167BAA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65EBB-C99A-4235-84FA-97A66F96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AAB5C-C6DE-45E1-A64A-60545C85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224A6-4348-4D84-8AA9-04EAA8AC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2423F-D26F-4385-899D-F04EFDD3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1C801-937C-4283-A91A-75776E7EE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7AD7B-90B9-41BE-8B27-44D5317BF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7E84F-9D51-4ED3-9CAB-FE7A4146C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F999-15B0-4CF8-8F11-1D147387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A2E6E-5C6C-466C-8BE2-B34EB730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17511-F5AA-4893-A2EC-2963F656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EC2E3-FE07-4E1B-882D-A4D803EB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6A473-4FF1-4033-B80E-61AA0829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532A4-1DA1-4CF1-99D6-42DE8183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9FB29-54D9-4656-BDF6-CB285D06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097CB-5F9F-4273-A523-218B0B77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86D19-5580-40B5-8751-F4C25ABC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46203-0C83-4BEC-A5E8-78ABA8D5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A07C0-1E9A-46D4-A10C-4B65005D8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1F79-B038-432F-8BDA-C9BA2001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213C5-0BCD-439E-B403-7BF228727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83D7B-877B-419A-A680-51AE12F5A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4E6F3-4F3E-4ACF-B03F-60EB24CC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5CB83-59B1-4A55-83AC-55E49842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41599-21FB-4452-866C-3BB196D7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A01E0-7B36-4CC7-92C9-859BB04E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1D05E-2322-4BDA-9300-859CE223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9E4AC-EA22-43EF-B378-DEE4A6DB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31F4B-7AD3-4BD7-9A4F-C023857D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4E28A-3153-4773-8023-90DEA47C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6331-17D4-4464-A027-07362F92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93696-BF82-4F4F-B73A-B0612F24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37370-DEBC-4895-B5FE-D77B32CFB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83764-33C5-475E-A0D8-BAC12A48B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2B034-EAA8-4508-8474-EF33FA947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99E3A-9AEF-49B1-8496-BFD76BDB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EAA77-89FC-4C7E-95AE-BED421B0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6D3ED-8AA1-4E67-8B23-BFE60ED8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83BD1-37CA-4F3E-A6AB-6A6816E3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AEBD2-89DF-4348-A6E4-6D4A210F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60F81-19EF-4E19-859E-19906FF6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0524-C2A7-4A82-B53E-A65E8A44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66C77-01DE-4158-A6C9-CF065348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A6BD7-9657-4D22-B749-58F71057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392AB-7670-4916-88FD-E7CFE930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BFD1E-A84F-4820-90FF-8F066F852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0A5C3-0634-40BB-B4B8-841B1D6D8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049BF-99FE-4DAC-9959-73882C62C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9106C-2860-4DDB-AE76-F70EE7C5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2FB04-6C44-443A-BFFA-FEBA1670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2C99E-6B12-4B94-8D38-D89BB477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64302-5B78-40FA-8FD5-A211FED1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037A-E94A-42ED-BDBB-C45174F7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FE77F-00B0-4B48-B2E5-AD93233A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322CF-96CD-4A96-923B-A483792B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67001-C390-4586-B11E-183449D5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946AB-1ED1-464E-952E-BA5CD9AD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85686-722F-4417-BBE8-BEAAE89D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4BE4F-7F46-4408-A909-923D87A1F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53702-A1CD-4CE9-963C-03DFE21D9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9434C-D3C4-46FE-A31A-47BFFDC13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C98F4-D7D5-4C58-90C1-04AD4EBE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2F0470-0A35-4685-A26E-937C9DD3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7B55-1C9E-4064-920E-3B7E86D186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09C4-BDDA-447C-9AAB-A1625075BB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AEBE-BB1D-40EC-A9A8-14B74233EC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4979-B290-47A9-8C1E-EAD1C74776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ECB4-A529-4A55-B7A7-A8E6E2DB94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1725-BD13-4C61-86C4-132D630255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4FED-C5DC-4F22-BB52-D7663E653F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9BF2-9B2E-4034-ABA0-21D90CC3F5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BD2B-822C-4111-B877-9481F8DEE9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7298-6A3E-4B90-9C91-356B5090FD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09CE-BF62-4B05-BC26-A1A53CA830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BE92-E25A-498B-AEED-DBF2B53873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06DE-2F1D-4169-9BA8-D5ECC956BA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DFB1-3642-452B-A550-A93D68F5BD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FC75-AD92-4741-86F8-522A6BD07D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127A-6294-4E75-B423-58D05ECBFD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DE82-64FB-4F11-BE73-B43AA4F3E8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1F20-A84B-4109-AA78-5768B64A67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DAA0-1051-4942-8383-DF48CF0DBE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27A8-2948-4326-BE0A-9C40F7833E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DB2E-AFBF-45A3-893B-7396948263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E5F4-0304-4FD4-9A5C-45D0A9E56C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5879-2A6D-4D6E-9445-06FF5EF0F7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96E8-A214-43E9-8D0A-1EE8220CD5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6574-6CDD-43B4-974E-D8019392FE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70FF-386B-4240-AD3C-D38B6E3135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0D33-6C7C-489C-89BC-88E9943AE7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E308-06A4-4222-8CFE-6FA797B0A3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5099-D391-43E7-A832-3DD693C244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E23F-5F0E-4A24-950F-A6E474BEE0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B84D-54A7-4CBD-821B-43325B7436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D436-408C-4134-9986-12843C16A7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476E-6527-4695-A36A-05C8695573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8A74-5676-4EE2-BBCB-17487A5341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F86A-C676-4F4B-BA10-9035288700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B813-F962-42B4-BCA2-2C6DA206C6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3A46-3DAF-44E7-AE40-533DFA1811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DDA1-273D-4103-97E0-629804FBCF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CDBF-7F9D-47B7-A878-58BC40C737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C3AA-3667-4000-9598-7A7E1A8D75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614600" y="3176640"/>
            <a:ext cx="591480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2" name="组合 60430"/>
          <p:cNvGrpSpPr/>
          <p:nvPr/>
        </p:nvGrpSpPr>
        <p:grpSpPr>
          <a:xfrm>
            <a:off x="338040" y="1125360"/>
            <a:ext cx="8481960" cy="4537080"/>
            <a:chOff x="338040" y="1125360"/>
            <a:chExt cx="8481960" cy="4537080"/>
          </a:xfrm>
        </p:grpSpPr>
        <p:pic>
          <p:nvPicPr>
            <p:cNvPr id="923" name="图片 60428" descr=""/>
            <p:cNvPicPr/>
            <p:nvPr/>
          </p:nvPicPr>
          <p:blipFill>
            <a:blip r:embed="rId1"/>
            <a:stretch/>
          </p:blipFill>
          <p:spPr>
            <a:xfrm>
              <a:off x="338040" y="1195560"/>
              <a:ext cx="8467920" cy="44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4" name="Picture 1" descr=""/>
            <p:cNvPicPr/>
            <p:nvPr/>
          </p:nvPicPr>
          <p:blipFill>
            <a:blip r:embed="rId2"/>
            <a:stretch/>
          </p:blipFill>
          <p:spPr>
            <a:xfrm>
              <a:off x="7812000" y="1125360"/>
              <a:ext cx="1008000" cy="432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1998720" y="254952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3564000" y="253692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5641920" y="252108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1998720" y="308772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3564000" y="309708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8"/>
          <a:stretch/>
        </p:blipFill>
        <p:spPr>
          <a:xfrm>
            <a:off x="5580000" y="307800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9"/>
          <a:stretch/>
        </p:blipFill>
        <p:spPr>
          <a:xfrm>
            <a:off x="1998720" y="363528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0"/>
          <a:stretch/>
        </p:blipFill>
        <p:spPr>
          <a:xfrm>
            <a:off x="3328920" y="36450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1"/>
          <a:stretch/>
        </p:blipFill>
        <p:spPr>
          <a:xfrm>
            <a:off x="5641920" y="36450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2"/>
          <a:stretch/>
        </p:blipFill>
        <p:spPr>
          <a:xfrm>
            <a:off x="1692360" y="471492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3"/>
          <a:stretch/>
        </p:blipFill>
        <p:spPr>
          <a:xfrm>
            <a:off x="3924360" y="472428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4"/>
          <a:stretch/>
        </p:blipFill>
        <p:spPr>
          <a:xfrm>
            <a:off x="6165720" y="47149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5"/>
          <a:stretch/>
        </p:blipFill>
        <p:spPr>
          <a:xfrm>
            <a:off x="8388360" y="472428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6"/>
          <a:stretch/>
        </p:blipFill>
        <p:spPr>
          <a:xfrm>
            <a:off x="1692360" y="525780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7"/>
          <a:stretch/>
        </p:blipFill>
        <p:spPr>
          <a:xfrm>
            <a:off x="3924360" y="524844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8"/>
          <a:stretch/>
        </p:blipFill>
        <p:spPr>
          <a:xfrm>
            <a:off x="6165720" y="52387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19"/>
          <a:stretch/>
        </p:blipFill>
        <p:spPr>
          <a:xfrm>
            <a:off x="8263080" y="5248440"/>
            <a:ext cx="28872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9410" descr=""/>
          <p:cNvPicPr/>
          <p:nvPr/>
        </p:nvPicPr>
        <p:blipFill>
          <a:blip r:embed="rId1"/>
          <a:stretch/>
        </p:blipFill>
        <p:spPr>
          <a:xfrm>
            <a:off x="442800" y="2038320"/>
            <a:ext cx="8258400" cy="27813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2050920" y="3313080"/>
            <a:ext cx="63374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8373" descr=""/>
          <p:cNvPicPr/>
          <p:nvPr/>
        </p:nvPicPr>
        <p:blipFill>
          <a:blip r:embed="rId1"/>
          <a:stretch/>
        </p:blipFill>
        <p:spPr>
          <a:xfrm>
            <a:off x="233280" y="947880"/>
            <a:ext cx="8677440" cy="49622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1258920" y="283356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3112920" y="285264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2944800" y="332892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5"/>
          <a:stretch/>
        </p:blipFill>
        <p:spPr>
          <a:xfrm>
            <a:off x="3568680" y="331308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6"/>
          <a:stretch/>
        </p:blipFill>
        <p:spPr>
          <a:xfrm>
            <a:off x="4199040" y="333216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7"/>
          <a:stretch/>
        </p:blipFill>
        <p:spPr>
          <a:xfrm>
            <a:off x="5580000" y="3313080"/>
            <a:ext cx="1079640" cy="2570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8"/>
          <a:stretch/>
        </p:blipFill>
        <p:spPr>
          <a:xfrm>
            <a:off x="1744560" y="435600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9"/>
          <a:stretch/>
        </p:blipFill>
        <p:spPr>
          <a:xfrm>
            <a:off x="3841920" y="433080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10"/>
          <a:stretch/>
        </p:blipFill>
        <p:spPr>
          <a:xfrm>
            <a:off x="5940360" y="43117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11"/>
          <a:stretch/>
        </p:blipFill>
        <p:spPr>
          <a:xfrm>
            <a:off x="4788000" y="472428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12"/>
          <a:stretch/>
        </p:blipFill>
        <p:spPr>
          <a:xfrm>
            <a:off x="6084720" y="4753080"/>
            <a:ext cx="1008360" cy="2570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13"/>
          <a:stretch/>
        </p:blipFill>
        <p:spPr>
          <a:xfrm>
            <a:off x="7677000" y="4743360"/>
            <a:ext cx="1008360" cy="25740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14"/>
          <a:stretch/>
        </p:blipFill>
        <p:spPr>
          <a:xfrm>
            <a:off x="1735200" y="516744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15"/>
          <a:stretch/>
        </p:blipFill>
        <p:spPr>
          <a:xfrm>
            <a:off x="3841920" y="516744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16"/>
          <a:stretch/>
        </p:blipFill>
        <p:spPr>
          <a:xfrm>
            <a:off x="5940360" y="516744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17"/>
          <a:stretch/>
        </p:blipFill>
        <p:spPr>
          <a:xfrm>
            <a:off x="3635280" y="5589720"/>
            <a:ext cx="649440" cy="2570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18"/>
          <a:stretch/>
        </p:blipFill>
        <p:spPr>
          <a:xfrm>
            <a:off x="5148360" y="5599080"/>
            <a:ext cx="1152360" cy="2570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19"/>
          <a:stretch/>
        </p:blipFill>
        <p:spPr>
          <a:xfrm>
            <a:off x="7308720" y="5599080"/>
            <a:ext cx="115272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1:30:23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